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9AB-DF9E-46F0-B13B-78913559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FD5-4CD5-42EE-9D9C-DBBA84B7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9A1-A44E-4F39-8378-A8B83659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ADB-B463-4762-A07A-13A472BA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0CA-47A7-41ED-BDE8-54F20AF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6FB-08F8-4AE2-BD73-CF0C4F9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EAB-502C-4BFE-AC48-7DEE2552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6DE-D380-48E3-B0EA-59D46168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FEC-6EE0-4DA0-A26F-FA8D87B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563-5A79-403C-9519-29E35CE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B0F-EA90-4C7E-9792-EAEEC36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5B9-DCA9-42FB-83C7-7154173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9BA-D166-4935-84D5-C42884511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63600"/>
            <a:ext cx="38862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7800" y="298440"/>
            <a:ext cx="388620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سقي عط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كأس 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سي عر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ثوب 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فكف الد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الع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ف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قلوب بالرجاء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04920"/>
            <a:ext cx="38098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أقبّل رف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دون 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م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روح الإنتقا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ّ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يُرَمّ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قلبي الجف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ذوب نف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كيان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23:56Z</dcterms:created>
  <dc:creator>xp</dc:creator>
  <dc:description/>
  <dc:language>en-US</dc:language>
  <cp:lastModifiedBy>xp</cp:lastModifiedBy>
  <dcterms:modified xsi:type="dcterms:W3CDTF">2004-12-13T15:12:24Z</dcterms:modified>
  <cp:revision>16</cp:revision>
  <dc:subject/>
  <dc:title>Slide 1</dc:title>
</cp:coreProperties>
</file>